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B43E-B410-4DAB-8013-AB8726F4D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4708-2B17-450D-88D5-C98C7DF16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C1FD-DF23-4BFA-8B57-EA6E751D3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CAEC-E83E-4424-98D5-B30ED5C90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FA77-DDF9-473B-9770-6AE2827AF6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78BD-302A-45BA-A3CB-340331401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9F30-F045-4B03-ABCC-4BAEDD9875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F335-B04E-4908-8CEC-159857FC95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E3D2-668D-4560-93BD-EEFC1F643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537F-6E74-4538-9052-700511025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CEB0-4A8E-4FF0-9444-0F5EB8E60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35D8-C44A-4200-9F41-9629FD8A2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3E99-1F76-4530-B6D8-7AE13F5E8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E0DE-61D7-4ABB-BB9A-4F3955F1F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9280-B2A6-4BBB-B0CA-8D292A9D80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8623-B126-4C27-AF7A-B610E5153C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21D9-8F8E-434E-8E0C-CFF635896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BBDC-A6FF-41FA-A46C-59FECC075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A435-EC0B-46F2-9D18-28C70DA01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9338-82BF-490C-9849-5EA9A2279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7ECF-2442-4FB7-A82F-BF39F1989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4527-6D7A-400E-924E-13A8CBD5A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FC5A-D656-4CEE-8336-E48EFB84E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7462-3B78-4337-86D6-7B7DFC4F8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982E-5DF0-40F2-BAC7-F9E70DD962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0800000">
            <a:off x="-1440" y="2514600"/>
            <a:ext cx="546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ord – Lesson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219320" y="652140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crosoft Office 2003 BASICS                                Pasewark &amp; Pasewar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C50-242D-458B-A4AA-D4472B9A8B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sewark &amp; Pasewar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392640"/>
            <a:ext cx="8280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Microsoft Office 2003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ICROSOFT WORD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 — Basic Edit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7070-1099-497F-8C00-3512F0AD98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lipboard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448956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lipboard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 temporary storage place. The Clipboard is displayed in                        task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an hold up to 24 cut or copied i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2514600"/>
            <a:ext cx="226836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6F51-F080-43B1-AAC5-898E38E80C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ut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moves selected text from the document and places it on the Clipbo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Cu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click the Cut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4276800"/>
            <a:ext cx="42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35640" y="3860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95640" y="4653000"/>
            <a:ext cx="8287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7668-F673-4544-AF0B-632E4F03A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as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s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text is copied from the Clipboard to the location of the insertion point in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Paste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Paste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4797360"/>
            <a:ext cx="12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11640" y="4869000"/>
            <a:ext cx="793800" cy="82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B40E-B0E4-4481-BB2B-DC1905B888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Copy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p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a copy of the selected text is placed on the Clipboard while the original text remains in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Copy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Copy button on the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4000" y="5553000"/>
            <a:ext cx="26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248000" y="4905360"/>
            <a:ext cx="722520" cy="75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BCB7-1D6D-46C8-AC37-FDB63862D4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sing Drag and Drop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ag and Dr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asiest way to copy and moving text a short d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 the pointer on the selected text and hold down the mouse button until a small box appears. While still holding down the mouse button, drag the text to the desired loc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BC9D-81F3-46CB-B19E-EDB4DFF93C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9520" y="839880"/>
            <a:ext cx="77691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utomatic Spell and Grammar Checking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utomatic Spell Chec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identifies spelling errors as you type with a wavy red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utomatic Grammar Check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identifies grammatical errors with a wavy green line as you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85FC-BC18-4B1A-B00E-BEF08C6E3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elling and Grammar Checker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pelling and Grammar Check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used to check the spelling and grammar of a document after you finish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ools, Spelling/Grammar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lick the Spelling and Grammar button on the                      Standard toolb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03640" y="5697360"/>
            <a:ext cx="16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855720" cy="88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E7B0-7DDF-4BF7-92B7-EEC33C4D51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nd and Replace Command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nd and Repla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editing commands that find a specific word in a document and allow you to replace it with a new wo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Find/Replace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use Option button beneath the scroll bar on Right. Use binoculars for find/replace fea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52552" t="79082" r="25488" b="0"/>
          <a:stretch/>
        </p:blipFill>
        <p:spPr>
          <a:xfrm>
            <a:off x="5543640" y="5157720"/>
            <a:ext cx="20160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30E3-F7C9-405B-9635-AF1F5078B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Find and Replace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08000" y="2492280"/>
            <a:ext cx="5904000" cy="388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56360" y="2708280"/>
            <a:ext cx="172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mat specific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pl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place A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nd N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2032-0D89-4547-93CD-F190C4AD3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hesauru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029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saur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finds a synonym                        for a word in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word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ools, Language, Thesauru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lso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Rt. Click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ynonym or Thesaur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590920"/>
            <a:ext cx="2314440" cy="36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450D-0058-4CA0-8CF3-A4E34FD0DC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ete and type over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o and redo recent a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, copy, and past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drag and drop to move or copy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3614-FB0F-4CCE-847E-B60FCF4C1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nserting the Date and Time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nsert, Date/Time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hoose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ate will be updated each time the document is opened if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pdate automatical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is check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00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3FD6-64D0-459C-A6AB-5527C7ECBF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Date and Time Dialog Box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84360" y="2529000"/>
            <a:ext cx="4643640" cy="37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9326-49DD-48C4-A3E8-E75CF7F7B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You can speed operations by selecting blocks of tex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elete text using Backspace and Delet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eplace text using Overtype m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ndo recent actions using the Undo comm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CBA0-0910-40ED-B2C1-5E3893B7BC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se Redo to reverse an Undo ac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end text to the Clipboard by using the Cut or Copy command. Retrieve text by using the Paste comm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Find command moves the insertion point to the word or phrase for which you are sear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E1F2-8A85-43D0-9CC6-24EBBEA4C0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Replace command allows you to replace a word in the Find box with a word you key in the Replace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tomatic spell checking identifies misspelled words with a wavy red under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tomatic grammar checking identifies grammatical errors with a wavy green under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1C00-A21E-4962-B2AF-A9CA45A5D2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he Thesaurus is used to find a synonym for a word in the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 date can be inserted in a document using the Date and Time command on the Insert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96B6-DB59-4FC1-8D6E-7E78EE4E48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the spelling and grammar of a docu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and replac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Thesauru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the date and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C35B-16B5-49E2-A482-E49C9E19D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Terms Used in This Lesson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matic grammar che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matic spell chec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p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and dr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type m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lling and Grammar Chec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aur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6F67-8D94-447A-B1A6-7C95601788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lectin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highlighting a block of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1B1C-F44F-439C-B248-EDA097F2AA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Text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2457360"/>
            <a:ext cx="8055000" cy="39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FC02-F932-4C61-94DF-C6CE65965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electing Text (cont.)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055000" cy="38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7AB4-A99B-4462-A35F-5284B96FF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Backspace, Delete, and 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Overtype Text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ckspace k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deletes characters to the left of the insertion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ete ke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deletes characters to the right of the insertion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vertyp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replaces or types over existing text. Double-click OVR on the status bar or press the Insert 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2A9E-0681-4852-B06F-31E5D85B6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Using Undo and Redo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verses recent actions. Click the Undo button on the Standard toolbar, or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U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reverses an Undo action. Click the Redo button on the Standard toolbar, or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dit, Re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2529000"/>
            <a:ext cx="7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79640" y="5265720"/>
            <a:ext cx="1008000" cy="642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93080" y="386064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08360" y="5265720"/>
            <a:ext cx="104472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9EBE-CEBB-4915-818F-92FC4214B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08:43:46Z</dcterms:created>
  <dc:creator>Pasewark Co.</dc:creator>
  <dc:description/>
  <dc:language>en-US</dc:language>
  <cp:lastModifiedBy>LDSD</cp:lastModifiedBy>
  <dcterms:modified xsi:type="dcterms:W3CDTF">2009-09-24T17:21:58Z</dcterms:modified>
  <cp:revision>111</cp:revision>
  <dc:subject/>
  <dc:title>Microsoft Office XP: Introduc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Virginia Ewbank</vt:lpwstr>
  </property>
</Properties>
</file>